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5453-96D8-4B26-8327-F7BAFFA30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A82F-7E3E-49E6-8C02-AED5459E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CF15-CAAF-412A-8656-93A1C8221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40EF-9D0C-4152-BBE6-797452A61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BEC7-8B6C-48CD-83F7-B543A834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BF4D7-21E3-4EDB-9054-07BEC7122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4A06-C7BD-49ED-B3C7-3FB7DBDB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522D-174D-402C-A444-F35EE76A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54565-8DD2-4877-B9A8-C5676CF6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A07E-C174-4DE7-A862-465769CCD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3020-0EA0-4226-8FFB-EE4C31EC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CB61-F1B6-428E-9657-E99D6ED1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0660-3828-489D-BDC6-F5E0BC59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A6CE-6172-4AA3-8DA4-8D403332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E0291-5B51-4CA3-8328-CBB3844CA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B4257-907F-45BC-BF13-79A8CC986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7E50-3FCC-4552-A161-D72A34612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E4B8F-F2AE-4EFB-B492-21A2DDF3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9F3B7-DCEB-442E-9E86-C807AF09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6C328-0DAC-4AA5-AF60-9D40DFD7A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4E0B9-EBAE-4464-8CA9-F2F4EC70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E35AF-5754-4C41-920E-F1264B60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725D-377A-4F9D-9D70-328C8FBBD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339EF-854C-4813-80A7-217B982C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2C3BC-49EB-4FFB-A043-6ECC1815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F1941-C196-460C-A642-327035EA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E6949-BC61-4EAD-9E3C-995C7871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5DAAD-43C5-4619-BD2D-2A97D886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7B6B0-355E-4106-90E7-0EA9C03BD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2175B-A5DD-4A9A-B314-60BE245D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3CD73-7633-4ECC-840C-2B7FB9AF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5BC55-A31C-489E-B489-924C8B24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B19F2-4DE8-4C80-8FF9-3FB158650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AA93-1B8F-4AD0-8E43-6E03A706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28AF4-AD98-4051-B5C4-AC679C69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B79DB-4079-4162-A97F-9455C2CD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EE16E-2399-4A42-8BB0-5A66B16D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18AC4-0175-4A50-BEF6-9B4F47EF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E6BB2-D13A-4D5A-AEA4-DCF84186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98187-6517-411A-B06F-3CDDC2BF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85761-E8B0-4D5E-ABE6-531B4DD3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B5154-795E-4DAF-8BA7-ABFA8B55D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06C90-CF94-4F65-998F-B7F238F3A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9BA8D-B969-4B7D-9883-25E16085B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3465-E96E-442A-ABB1-C8AB3041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C9AB5-D7C4-472E-A2B5-F26AB053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C9279-593A-4B98-AF89-ABE82FD9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0B46F-A518-40B2-BF06-690227AA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B6FBA-EDC6-4178-B7BA-E0AD2A81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914DC-FA59-4950-9C7C-04BF4D79B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45BFA-DF66-4444-B1A3-03808FB3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7025B-14F4-4DAC-82F2-D49B1DF4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70552-5B75-45E1-B58A-61D71D6E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F7844C-B357-482F-AB3F-08C4E5C0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F8B33-F715-446D-BAAC-0747AA7DC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3902-2E27-40D0-AA90-A301F0E4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015E8-255F-4613-AEFF-D65BAC974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BDE96-96AE-4312-8761-E7B14CEFF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3E24A-640F-49C5-A3DC-4E62FEB5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29CB7-FFD0-42FA-81FF-D861EFAD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FE9D3-958E-49EB-B046-D368A5D6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45407-9BB9-40F7-B35A-DA6B800F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0B79A-79F1-4C0A-BA33-C32F5D24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2AD5A-A8BE-4021-AE98-495C3078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8F30A-2F91-4EE5-ABD4-6BF64BFA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22E61-B4FC-4C34-BE9D-D19FEF8C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356B-DDA8-4257-BC18-1386359E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FAD1A-702F-48AE-BEF1-DBE7F202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E3B1B-FFE5-4D62-B03E-51D000953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57112-C3FF-40B9-9592-92E38C83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0CEC7-07AD-486F-89D4-32DD049D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75827-7DC5-4E89-A3C3-9B43B725D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631BE-2AA3-4827-8A37-9528E09F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EC4BB-18D4-42EA-B7EC-DD7AE794A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5A50C-8F8C-4E6C-8A4A-F77580A4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FD9CD-1A17-4BFE-B22B-7F59D5C1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00DC2-8FB3-46F0-AF0F-96400E40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33F2-EB43-47F7-B204-31219AE3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B454F-6DB3-4B02-A49E-5D93C3E9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EFA67-73C2-4896-AF3D-FBF0FEBD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26F51-6BF9-4A42-AD9A-D99E91AB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40AA22-430A-47C9-A1E2-AC20C2642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C2480-864F-451B-A795-C7A74BF7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9FC33-B473-48FA-A2AD-B3BC666CC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ABC01-E8BB-4838-9EA4-8A0AB56A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242B4-996B-4FDE-B01A-00CA91B6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DCAAD-A7F7-455E-BBEA-2E63BD41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E0331-9238-4EA8-BE04-CB692A97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9C19-A4F0-475B-BC91-C4FEBDC0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15097-069C-4485-9E49-767174BE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D77FC-06D6-4FAD-A75A-491D5C8F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226AE-5369-4CBD-9DC1-E7CF142A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ECA15-B433-4818-B895-BC5961F8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61673-6B0E-48D1-B018-43135C78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FC023-D216-4B12-B38D-B8C1B5ABC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EE560-B2D2-4EF4-B75E-209A0ED57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F2E6-76F0-469C-8C53-2D65F6FC720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6C8C-F9D4-47F2-A460-535130459D6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EE98E-7E27-4F01-AE11-DA6D8F3A994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B1B5-E36C-4F50-B96B-B4D687D415F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8E1F-68B3-41D6-96A8-DBB84874F2C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9F2C-D612-45A3-AC47-8132BA5F728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9CB4-0234-4D34-9588-EC2E42F9422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3042-95AB-46A0-B8AF-055C2305153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nd your BOSS card </a:t>
            </a:r>
            <a:r>
              <a:rPr b="0" lang="en-US" sz="1800" spc="-1" strike="noStrike">
                <a:solidFill>
                  <a:srgbClr val="000000"/>
                </a:solidFill>
                <a:latin typeface="Lucida Sans Unicode"/>
              </a:rPr>
              <a:t>(make one if absent from Seminar 4)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t in pairs – your preference for partn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t your BOSS name card in front of you w/ THE BOSS facing the projection scre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sessment: time to follow directions correct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Respect for other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Looking at resume characteristics – not sharing nam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Learning experienc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you do not know” these people – do not be influenced by the names on resum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You are THE BOSS, this is YOUR business, YOUR success, YOUR income, YOUR family depend upon good decisions about who works for you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ssume these potential employees have the necessary specialty knowledge and skills for your job opening – looking at “soft skills” &amp; intangibl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3 per folder; one minute to view all three, then you will pass the folder 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GOAL: impact of the resum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Remember “safety of Seminar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haracteristics of the resume layou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Visual impac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Quality of the informatio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What do you notice, what message does it send?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Make note of your “first impression”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Inside of “BOSS” tent = resume characteristic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Good/incorporate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- Poor/avoid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27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 txBox="1"/>
          <p:nvPr/>
        </p:nvSpPr>
        <p:spPr>
          <a:xfrm>
            <a:off x="456840" y="1444680"/>
            <a:ext cx="40402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09960" indent="-217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rustworth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Determination/Perseverance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ime managem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sponsibl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ard worke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llows direction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unctua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spectfu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Intelligen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ulti-tasking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nes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09960" indent="-217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644720" y="1444680"/>
            <a:ext cx="404172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sciplin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rganiz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app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nthusiastic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eople skills/manner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eadership abil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eat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otivat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spect authori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oyalt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ocused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Listens well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Problem solving skill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1:32:56Z</dcterms:created>
  <dc:creator>bguenther</dc:creator>
  <dc:description/>
  <dc:language>en-US</dc:language>
  <cp:lastModifiedBy>bguenther</cp:lastModifiedBy>
  <dcterms:modified xsi:type="dcterms:W3CDTF">2009-11-02T13:47:27Z</dcterms:modified>
  <cp:revision>14</cp:revision>
  <dc:subject/>
  <dc:title>Challenge – Session #4</dc:title>
</cp:coreProperties>
</file>